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22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F1A0-D385-4CAF-B525-A732573762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3D8E-D4C1-4863-8C00-EFD357FD3973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541A-21E3-4ED2-9965-C7D57857928D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D8CFD-7BB9-4063-933B-596DC87AC5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D3ABC-294C-4EA5-8EF3-B6785DA50B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42EC8-88FF-40B5-9CEC-9ED9F98FD9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0F59D-BDB7-4566-B48A-A659AE4DBB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939C8-64DC-45C4-9EBD-AAF832FB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29FA5-D38A-44D8-A737-23D54FA3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9BFC3-65E8-409D-B1E0-A36755A1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F0458-0418-426A-B776-4D8D71DD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56C07-F9CD-459D-AA81-E47223B7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0B13C-8F69-463F-BFF8-F26A43B7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22130-6DAE-4FED-8518-59DE978B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3192C-B6CE-4C35-9D8B-2533AA1E1C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3018B-BBEB-4457-9FEB-7D4AA12D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F4983-F7F7-40ED-9F86-BE7153C5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30827-4AC6-4D9A-BD77-2DD7EEBF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C81F2-79A0-44AB-86A1-8A55C1BA7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9F6FC-E582-4B59-ACCA-75CFA30A2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28BFBE-E149-4C5A-8290-94F6DCDB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687F5A-E3FE-4B54-BBB0-20182216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9DDBDA-C344-4E0F-AA6C-0D1ABCB8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B906EB-600E-477B-9290-7B706309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12BB7D-B3DF-478D-BB84-46AA9D6D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A0836-3788-45D1-AE57-91F755ACFF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0F970E-5365-4375-A10A-60C86417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75E311-304D-462C-BB48-5D57ADFC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320DF9-4144-4B9E-9457-AB533591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5347BD-7233-4644-8DA6-D3071223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E1DFCC-C89B-4D45-B031-9502B20B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48143E-2C5E-40C3-B5AC-DE4136F51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6808D9-9165-4130-BF03-C4AC245E9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40D14F-6753-4EE2-AF85-37DE964E9E5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428F11-F9F1-451C-89B1-4E8D4F96BC0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03A822-0FD1-4A22-984C-A074D59F80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6B30F-9811-486D-BFA2-DBB265CDBAE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8E0944-F194-45B0-B573-146481A6D9C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7AC2B8-A178-4EA4-9F63-D5AEAC06E0E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85FDEE-7C23-4077-9298-74DF91FDC09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7B2F60-BE30-49C4-AE86-FDA01739B25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EED5EB-02CE-4CD3-B9F9-76C5240338D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43BAD7-8898-4AC3-8D00-85912C9D3D5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AEB675-E8F7-4B48-8C89-69EDA30407A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A34F62-97EA-4D0D-AAB7-9FCB5FA811C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4F86A3-DE35-45B1-A9DE-F8DC31D743F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F8D5D-1E68-4152-957D-06486987D3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E299D-8A0A-4A25-B5F9-3C46C9D055D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3E7FF-AC9B-48EE-AA31-CD4C7904D4D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58061-B3D7-4F2B-8EF5-98632BED233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8431E-2DCF-4E5D-8000-506DACF4AFB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B9541-5D54-430F-B27A-465CC8723B3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5D2CA-9172-431F-870E-BBD2E7B2BAF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F7FD9-96CA-4CBF-801C-3D325F8EBA8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C50FD-6B5A-4A55-9CD3-6A9CAE8FFC7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D8718-CC04-4BB7-BA2F-96032B9078C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4DB9C-FADC-4673-876F-555D1EEFEC1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6981C-B949-4DC3-B11C-EC5AE3168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FDB40-2BA0-4A1C-8D54-93AAFCDA4FA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ABAA4-7749-4E44-BB14-8F90EF4A0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E661A-6338-4455-A31F-E6E5C63AAA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BE46D-DDBC-4250-B980-54E52B4FEF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0FFB6-A392-4D26-A632-0C1781B916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4727E5B-C71E-452C-B20A-34C56216025A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23C37DF-EA00-4E13-B561-9DA76747E1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9540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8087-28B0-4567-BB0D-41130168E1D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CD08-E5B8-4394-9130-63257B9AE0A0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45072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9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0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AD320EB-E6A7-42BE-92E8-2C9208DC0240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1C6223A-AA86-4C50-8D4B-8ECB524726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81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2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3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4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5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6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7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8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9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0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1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2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3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4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5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196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95400"/>
            <a:ext cx="5581800" cy="666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3" descr="cid:image004.png@01D7B519.9E61D320"/>
          <p:cNvPicPr/>
          <p:nvPr/>
        </p:nvPicPr>
        <p:blipFill>
          <a:blip r:embed="rId3"/>
          <a:stretch/>
        </p:blipFill>
        <p:spPr>
          <a:xfrm>
            <a:off x="3228840" y="200160"/>
            <a:ext cx="5581800" cy="666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1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sldNum" idx="1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DCB73721-C451-49FB-863F-4AE75A793C0E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8B35DBF5-C446-4A0F-BFFA-23E0451ED3C1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8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109440" y="4565520"/>
            <a:ext cx="903924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If group variances differ but normal distributions in group use Welch’s df adjustm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https://statisticsbyjim.com/anova/welchs-anova-compared-to-classic-one-way-anova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See also Delacre, M., Lakens, D., &amp; Leys, C. (2017)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Why Psychologists Should by Default Use Welch’s t-test Instead of Student’s t-test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70c0"/>
                </a:solidFill>
                <a:latin typeface="Verdana"/>
              </a:rPr>
              <a:t>International Review of Social Psychology</a:t>
            </a: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, 30(1), 92–101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1" name="Picture 8" descr=""/>
          <p:cNvPicPr/>
          <p:nvPr/>
        </p:nvPicPr>
        <p:blipFill>
          <a:blip r:embed="rId1"/>
          <a:stretch/>
        </p:blipFill>
        <p:spPr>
          <a:xfrm>
            <a:off x="507960" y="1995480"/>
            <a:ext cx="8604360" cy="2548080"/>
          </a:xfrm>
          <a:prstGeom prst="rect">
            <a:avLst/>
          </a:prstGeom>
          <a:ln w="0">
            <a:noFill/>
          </a:ln>
        </p:spPr>
      </p:pic>
      <p:sp>
        <p:nvSpPr>
          <p:cNvPr id="292" name="Oval 9"/>
          <p:cNvSpPr/>
          <p:nvPr/>
        </p:nvSpPr>
        <p:spPr>
          <a:xfrm>
            <a:off x="7521480" y="245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3" name="Line 10"/>
          <p:cNvSpPr/>
          <p:nvPr/>
        </p:nvSpPr>
        <p:spPr>
          <a:xfrm flipV="1">
            <a:off x="6800760" y="3217680"/>
            <a:ext cx="144144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6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3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304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316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3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1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28.89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12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3.95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9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4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2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4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5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6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7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8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1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2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75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388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9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394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5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413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417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20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421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2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4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5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6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436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39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440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4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5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6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447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8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51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6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7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weighted=arith mean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89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2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3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4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5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6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01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4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275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5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21-10-26T08:08:44Z</dcterms:modified>
  <cp:revision>373</cp:revision>
  <dc:subject/>
  <dc:title>No Slide Title</dc:title>
</cp:coreProperties>
</file>